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wmf" ContentType="image/x-wmf"/>
  <Override PartName="/ppt/media/image8.jpeg" ContentType="image/jpeg"/>
  <Override PartName="/ppt/media/image10.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8ED46-F10F-4AD4-9891-0D9FBB19D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6E584-6BD8-4450-BA14-9EFAD461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5BD80-9A6B-4D32-9750-C3FC61484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E2109-172F-4A37-AB2C-B6BC2B59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F8DE0-2461-4E78-9879-4C4498312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C8F90-ADF0-4F80-9FE0-A5D2FF220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E13C8-0212-4F3D-94B3-C000B7AFD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3B942-5004-4193-8ECE-E776B3522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32ED8-0094-4876-9869-6681A75DA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6610D-416D-4521-B26A-9958574AC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1600B-4A50-44DF-BC74-5D5E92C7E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BCC31-EA60-43B5-9B71-9AA5AEA44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13718-74A9-430E-8086-256920634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2C90A-1854-4167-9F16-22F779BC7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2C401-0CFF-4C25-A78A-3BF6B9646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51A4D-B154-400C-A78C-68D81A30A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488EB-F589-4A52-96DE-853EEA644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0F866-D96D-4CAA-BC97-597FB82CF7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B14669-64E0-465C-AD9B-3ECC3C500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5FDA7-3733-475A-81EB-8883F2CDA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FB151-239E-4D23-A900-C99148775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2D7A2-7838-461C-94BB-6A8468F23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DC8B-0724-470E-9EC4-6EA95A9DA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C7E77-F637-4EBB-8F1F-51863EEE0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3802B-6931-4457-BE07-D309B6F67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97ACC-F546-4D86-BD3E-8215BAD29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F2043-61FC-4BA6-80BA-222A091E5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224C8-E011-4883-8F33-4E753CE55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A90C00-4D87-4D36-BF5F-02FC9FE9A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2344E1-BB8C-4A67-A648-6C0564DCAB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7A0E21-328D-43FC-9137-9722355B14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13F197-C509-4D91-8027-83D81B49A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8E390-CD2B-41C6-A007-3B63AFECF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3F31-5224-40E9-B395-186F0B0DF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1CFEB-DE7B-4F7E-84D7-8958BBEF3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D59F6B-6BAF-41B5-A299-3E3518F8A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07A36-CFA7-4227-95DF-358BB699C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B665B-1044-4140-BF3E-411E7E0DE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D7ADE-F050-4EDF-8AE5-2625CF816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6CD98-ABE0-4D71-87CC-2372564BE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00462-E2C2-4881-A2BA-52969B3BE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9BDF46-D666-4453-83A9-876B658607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95BB2-D6B7-414B-99E4-C3FBBA081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9A0B4-C087-4200-87E7-9CB753D46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DBB9-98C9-4180-B6E6-FDE11B7FF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A845-EB3C-42E7-8428-A9F907FE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F018-5F9A-47E2-9BEF-217082F73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E3E9-85EF-4591-98CD-EF888C2C6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72E2-35E8-4FD8-998A-3EBBC6277742}"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DBA8-15F4-48F6-B470-879A463138F2}"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A3D7-0351-40F7-839D-953C39C5357D}"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D6CC-1340-4119-86EA-F6580A7991F2}"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53880" y="701640"/>
            <a:ext cx="8352000" cy="2559240"/>
          </a:xfrm>
          <a:prstGeom prst="rect">
            <a:avLst/>
          </a:prstGeom>
          <a:ln w="0">
            <a:noFill/>
          </a:ln>
        </p:spPr>
      </p:pic>
      <p:sp>
        <p:nvSpPr>
          <p:cNvPr id="196" name="PlaceHolder 1"/>
          <p:cNvSpPr>
            <a:spLocks noGrp="1"/>
          </p:cNvSpPr>
          <p:nvPr>
            <p:ph type="subTitle"/>
          </p:nvPr>
        </p:nvSpPr>
        <p:spPr>
          <a:xfrm>
            <a:off x="533160" y="4038480"/>
            <a:ext cx="7854840" cy="18288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nted by Chantal Desroches, Holly MacDonald, Pamela Berry and Karen Chevari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38080"/>
            <a:ext cx="822960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Let’s have a look at all we have learned!</a:t>
            </a:r>
            <a:endParaRPr b="0" lang="en-US" sz="5000" spc="-1" strike="noStrike">
              <a:solidFill>
                <a:srgbClr val="4e5b6f"/>
              </a:solidFill>
              <a:latin typeface="Calibri"/>
            </a:endParaRPr>
          </a:p>
        </p:txBody>
      </p:sp>
      <p:sp>
        <p:nvSpPr>
          <p:cNvPr id="217" name=""/>
          <p:cNvSpPr txBox="1"/>
          <p:nvPr/>
        </p:nvSpPr>
        <p:spPr>
          <a:xfrm>
            <a:off x="457200" y="2209680"/>
            <a:ext cx="8229600" cy="41148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8</a:t>
            </a:r>
            <a:r>
              <a:rPr b="0" lang="en-US" sz="2600" spc="-1" strike="noStrike">
                <a:solidFill>
                  <a:srgbClr val="000000"/>
                </a:solidFill>
                <a:latin typeface="Constantia"/>
              </a:rPr>
              <a:t> :  Explain how to complete the regional organizer  activity on page 125 and allow the students to work together.  Assign the brochure project to students and provide a tutorial involving using the Microsoft Office brochure template.</a:t>
            </a:r>
            <a:endParaRPr b="0" lang="en-US" sz="2600" spc="-1" strike="noStrike">
              <a:solidFill>
                <a:srgbClr val="000000"/>
              </a:solidFill>
              <a:latin typeface="Constantia"/>
            </a:endParaRPr>
          </a:p>
        </p:txBody>
      </p:sp>
      <p:pic>
        <p:nvPicPr>
          <p:cNvPr id="218" name="Picture 2" descr="C:\Users\dill-kaa\AppData\Local\Microsoft\Windows\Temporary Internet Files\Content.IE5\UX2TLV4J\MM900174001[1].gif"/>
          <p:cNvPicPr/>
          <p:nvPr/>
        </p:nvPicPr>
        <p:blipFill>
          <a:blip r:embed="rId1"/>
          <a:stretch/>
        </p:blipFill>
        <p:spPr>
          <a:xfrm>
            <a:off x="3352680" y="4191120"/>
            <a:ext cx="2095560" cy="24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References</a:t>
            </a:r>
            <a:r>
              <a:rPr b="0" lang="en-US" sz="5000" spc="-1" strike="noStrike">
                <a:solidFill>
                  <a:srgbClr val="4e5b6f"/>
                </a:solidFill>
                <a:latin typeface="Calibri"/>
              </a:rPr>
              <a:t>	</a:t>
            </a:r>
            <a:endParaRPr b="0" lang="en-US" sz="5000" spc="-1" strike="noStrike">
              <a:solidFill>
                <a:srgbClr val="4e5b6f"/>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Student Text.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Teacher’s Resource.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Unit Objectives</a:t>
            </a:r>
            <a:endParaRPr b="0" lang="en-US" sz="5000" spc="-1" strike="noStrike">
              <a:solidFill>
                <a:srgbClr val="4e5b6f"/>
              </a:solidFill>
              <a:latin typeface="Calibri"/>
            </a:endParaRPr>
          </a:p>
        </p:txBody>
      </p:sp>
      <p:sp>
        <p:nvSpPr>
          <p:cNvPr id="198" name=""/>
          <p:cNvSpPr txBox="1"/>
          <p:nvPr/>
        </p:nvSpPr>
        <p:spPr>
          <a:xfrm>
            <a:off x="457200" y="220932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plore the physical landscape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apply the concepts of boundaries and regions to areas that are familiar to student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amine and compare satellite images with physical region maps so as to theorize  about how boundaries were created </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determine the characteristics of the six physical regions using  poems, art and map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7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By the end of the unit, students will be able to …</a:t>
            </a:r>
            <a:endParaRPr b="0" lang="en-US" sz="5000" spc="-1" strike="noStrike">
              <a:solidFill>
                <a:srgbClr val="4e5b6f"/>
              </a:solidFill>
              <a:latin typeface="Calibri"/>
            </a:endParaRPr>
          </a:p>
        </p:txBody>
      </p:sp>
      <p:sp>
        <p:nvSpPr>
          <p:cNvPr id="200" name=""/>
          <p:cNvSpPr txBox="1"/>
          <p:nvPr/>
        </p:nvSpPr>
        <p:spPr>
          <a:xfrm>
            <a:off x="533520" y="2742840"/>
            <a:ext cx="8153280" cy="35514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concept of a region</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six physical regions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climate, vegetation and natural resources of each reg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Eight Days of Discovery</a:t>
            </a:r>
            <a:endParaRPr b="0" lang="en-US" sz="5000" spc="-1" strike="noStrike">
              <a:solidFill>
                <a:srgbClr val="4e5b6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1</a:t>
            </a:r>
            <a:r>
              <a:rPr b="0" lang="en-US" sz="2600" spc="-1" strike="noStrike">
                <a:solidFill>
                  <a:srgbClr val="000000"/>
                </a:solidFill>
                <a:latin typeface="Constantia"/>
              </a:rPr>
              <a:t> :  Discuss the objectives of the unit and why we divide large areas into regions.  Discuss Nova Scotia tourist regions using the map and its features.  Discuss the poem about the Interior Plains as well as its student author.  (pp. 110-111)</a:t>
            </a: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a:t>
            </a:r>
            <a:r>
              <a:rPr b="0" lang="en-US" sz="2600" spc="-1" strike="noStrike">
                <a:solidFill>
                  <a:srgbClr val="000000"/>
                </a:solidFill>
                <a:latin typeface="Constantia"/>
              </a:rPr>
              <a:t> :  Discuss how places are organized into regions by analyzing the school floor plan in the text.  Let students discuss the “My World” topic.  Draw students’ attention to the “Tool Kit” inser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914040"/>
            <a:ext cx="80010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e5b6f"/>
                </a:solidFill>
                <a:latin typeface="Calibri"/>
              </a:rPr>
              <a:t>Unit Plan:  Day by Day</a:t>
            </a:r>
            <a:endParaRPr b="0" lang="en-US" sz="4500" spc="-1" strike="noStrike">
              <a:solidFill>
                <a:srgbClr val="4e5b6f"/>
              </a:solidFill>
              <a:latin typeface="Calibri"/>
            </a:endParaRPr>
          </a:p>
        </p:txBody>
      </p:sp>
      <p:sp>
        <p:nvSpPr>
          <p:cNvPr id="204" name=""/>
          <p:cNvSpPr txBox="1"/>
          <p:nvPr/>
        </p:nvSpPr>
        <p:spPr>
          <a:xfrm>
            <a:off x="457200" y="1905120"/>
            <a:ext cx="8229600" cy="4495680"/>
          </a:xfrm>
          <a:prstGeom prst="rect">
            <a:avLst/>
          </a:prstGeom>
          <a:noFill/>
          <a:ln w="0">
            <a:noFill/>
          </a:ln>
        </p:spPr>
        <p:txBody>
          <a:bodyPr anchor="t">
            <a:normAutofit fontScale="97000"/>
          </a:bodyPr>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 continued </a:t>
            </a:r>
            <a:r>
              <a:rPr b="0" lang="en-US" sz="2600" spc="-1" strike="noStrike">
                <a:solidFill>
                  <a:srgbClr val="000000"/>
                </a:solidFill>
                <a:latin typeface="Constantia"/>
              </a:rPr>
              <a:t>:  Analyze garbage zone map of Mount Pearl and the seating chart of the Moncton Coliseum.  Allow students to record responses to “Checkpoint.”  (pp. 112-113)</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3</a:t>
            </a:r>
            <a:r>
              <a:rPr b="0" lang="en-US" sz="2600" spc="-1" strike="noStrike">
                <a:solidFill>
                  <a:srgbClr val="000000"/>
                </a:solidFill>
                <a:latin typeface="Constantia"/>
              </a:rPr>
              <a:t> :  Teach students how to read a satellite image and how to compare and contrast it to a conventional map by using the images of Africa.  Allow students to work on “My Turn” by experimenting with Geographic Information System (GIS) software.   (pp. 114-115)</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Mid-Unit:  Day by Day</a:t>
            </a:r>
            <a:endParaRPr b="0" lang="en-US" sz="5000" spc="-1" strike="noStrike">
              <a:solidFill>
                <a:srgbClr val="4e5b6f"/>
              </a:solidFill>
              <a:latin typeface="Calibri"/>
            </a:endParaRPr>
          </a:p>
        </p:txBody>
      </p:sp>
      <p:sp>
        <p:nvSpPr>
          <p:cNvPr id="206" name=""/>
          <p:cNvSpPr txBox="1"/>
          <p:nvPr/>
        </p:nvSpPr>
        <p:spPr>
          <a:xfrm>
            <a:off x="457200" y="1523880"/>
            <a:ext cx="8229600" cy="4572000"/>
          </a:xfrm>
          <a:prstGeom prst="rect">
            <a:avLst/>
          </a:prstGeom>
          <a:noFill/>
          <a:ln w="0">
            <a:noFill/>
          </a:ln>
        </p:spPr>
        <p:txBody>
          <a:bodyPr anchor="t">
            <a:normAutofit fontScale="90000"/>
          </a:bodyPr>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4</a:t>
            </a:r>
            <a:r>
              <a:rPr b="0" lang="en-US" sz="2600" spc="-1" strike="noStrike">
                <a:solidFill>
                  <a:srgbClr val="000000"/>
                </a:solidFill>
                <a:latin typeface="Constantia"/>
              </a:rPr>
              <a:t> :  Review what has been learned so far about satellite images and maps to compare and contrast the satellite image of Canada on page 116 with the regional map of Canada on page 117.  Allow students to respond to “Checkpoint” by creating postcards either digitally  using Microsoft Office or by hand.  </a:t>
            </a: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a:t>
            </a:r>
            <a:r>
              <a:rPr b="0" lang="en-US" sz="2600" spc="-1" strike="noStrike">
                <a:solidFill>
                  <a:srgbClr val="000000"/>
                </a:solidFill>
                <a:latin typeface="Constantia"/>
              </a:rPr>
              <a:t> :  Discuss some features of physical regions and define several key terms found on page 118.  Respond to paintings on this page and the next.  Google similar Canadian artwork.  Discuss the “Did You Know?” se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nward We Go…</a:t>
            </a:r>
            <a:endParaRPr b="0" lang="en-US" sz="5000" spc="-1" strike="noStrike">
              <a:solidFill>
                <a:srgbClr val="4e5b6f"/>
              </a:solidFill>
              <a:latin typeface="Calibri"/>
            </a:endParaRPr>
          </a:p>
        </p:txBody>
      </p:sp>
      <p:sp>
        <p:nvSpPr>
          <p:cNvPr id="208" name=""/>
          <p:cNvSpPr txBox="1"/>
          <p:nvPr/>
        </p:nvSpPr>
        <p:spPr>
          <a:xfrm>
            <a:off x="304920" y="190476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 continued </a:t>
            </a:r>
            <a:r>
              <a:rPr b="0" lang="en-US" sz="2600" spc="-1" strike="noStrike">
                <a:solidFill>
                  <a:srgbClr val="000000"/>
                </a:solidFill>
                <a:latin typeface="Constantia"/>
              </a:rPr>
              <a:t>:  Analyze the features of the relief map of Canada on page 119.  Analyze the vegetation map on page 120 and discuss similarities between both maps.  Set up “Checkpoint” on page 120 using Microsoft Office.  </a:t>
            </a:r>
            <a:endParaRPr b="0" lang="en-US" sz="2600" spc="-1" strike="noStrike">
              <a:solidFill>
                <a:srgbClr val="000000"/>
              </a:solidFill>
              <a:latin typeface="Constantia"/>
            </a:endParaRPr>
          </a:p>
        </p:txBody>
      </p:sp>
      <p:pic>
        <p:nvPicPr>
          <p:cNvPr id="209" name="Picture 2" descr="C:\Users\dill-kaa\AppData\Local\Microsoft\Windows\Temporary Internet Files\Content.IE5\1YCPAXIR\MC900445376[1].wmf"/>
          <p:cNvPicPr/>
          <p:nvPr/>
        </p:nvPicPr>
        <p:blipFill>
          <a:blip r:embed="rId1"/>
          <a:stretch/>
        </p:blipFill>
        <p:spPr>
          <a:xfrm>
            <a:off x="3124080" y="4114800"/>
            <a:ext cx="2621160" cy="23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6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ultivating Curiosity about Climate…</a:t>
            </a:r>
            <a:endParaRPr b="0" lang="en-US" sz="5000" spc="-1" strike="noStrike">
              <a:solidFill>
                <a:srgbClr val="4e5b6f"/>
              </a:solidFill>
              <a:latin typeface="Calibri"/>
            </a:endParaRPr>
          </a:p>
        </p:txBody>
      </p:sp>
      <p:sp>
        <p:nvSpPr>
          <p:cNvPr id="211" name=""/>
          <p:cNvSpPr txBox="1"/>
          <p:nvPr/>
        </p:nvSpPr>
        <p:spPr>
          <a:xfrm>
            <a:off x="457200" y="2057400"/>
            <a:ext cx="8229600" cy="45720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6</a:t>
            </a:r>
            <a:r>
              <a:rPr b="0" lang="en-US" sz="2600" spc="-1" strike="noStrike">
                <a:solidFill>
                  <a:srgbClr val="000000"/>
                </a:solidFill>
                <a:latin typeface="Constantia"/>
              </a:rPr>
              <a:t> :  Investigate the features of the climate map of Canada on page 121.  Learn how to interpret the table of average temperature and precipitation.  Answer the questions at the end of the page to ensure comprehension.  Find and show a short video clip (David Suzuki?) about Canada’s changing climate.</a:t>
            </a:r>
            <a:endParaRPr b="0" lang="en-US" sz="2600" spc="-1" strike="noStrike">
              <a:solidFill>
                <a:srgbClr val="000000"/>
              </a:solidFill>
              <a:latin typeface="Constantia"/>
            </a:endParaRPr>
          </a:p>
        </p:txBody>
      </p:sp>
      <p:pic>
        <p:nvPicPr>
          <p:cNvPr id="212" name="Picture 2" descr="C:\Users\dill-kaa\AppData\Local\Microsoft\Windows\Temporary Internet Files\Content.IE5\UX2TLV4J\MP900437229[1].jpg"/>
          <p:cNvPicPr/>
          <p:nvPr/>
        </p:nvPicPr>
        <p:blipFill>
          <a:blip r:embed="rId1"/>
          <a:stretch/>
        </p:blipFill>
        <p:spPr>
          <a:xfrm>
            <a:off x="3276720" y="4572000"/>
            <a:ext cx="220968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1067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ur Precious Natural Resources</a:t>
            </a:r>
            <a:endParaRPr b="0" lang="en-US" sz="5000" spc="-1" strike="noStrike">
              <a:solidFill>
                <a:srgbClr val="4e5b6f"/>
              </a:solidFill>
              <a:latin typeface="Calibri"/>
            </a:endParaRPr>
          </a:p>
        </p:txBody>
      </p:sp>
      <p:sp>
        <p:nvSpPr>
          <p:cNvPr id="214" name=""/>
          <p:cNvSpPr txBox="1"/>
          <p:nvPr/>
        </p:nvSpPr>
        <p:spPr>
          <a:xfrm>
            <a:off x="380880" y="1523520"/>
            <a:ext cx="8229600" cy="48466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7</a:t>
            </a:r>
            <a:r>
              <a:rPr b="0" lang="en-US" sz="2600" spc="-1" strike="noStrike">
                <a:solidFill>
                  <a:srgbClr val="000000"/>
                </a:solidFill>
                <a:latin typeface="Constantia"/>
              </a:rPr>
              <a:t> :  Use photographs on pages 122, 123 and 124 to pique interest and initiate discussion about natural resources.  Discuss “Did You Know?” on page 123 and then enhance the topic of glaciers by showing a simulation of moving glaciers.  Show a short video or photographs of magnificent trees in British Columbia.  Allow students to work on “Checkpoint” by doing searches on the internet.</a:t>
            </a:r>
            <a:endParaRPr b="0" lang="en-US" sz="2600" spc="-1" strike="noStrike">
              <a:solidFill>
                <a:srgbClr val="000000"/>
              </a:solidFill>
              <a:latin typeface="Constantia"/>
            </a:endParaRPr>
          </a:p>
        </p:txBody>
      </p:sp>
      <p:pic>
        <p:nvPicPr>
          <p:cNvPr id="215" name="Picture 4" descr="C:\Users\dill-kaa\AppData\Local\Microsoft\Windows\Temporary Internet Files\Content.IE5\1YCPAXIR\MP900430852[1].jpg"/>
          <p:cNvPicPr/>
          <p:nvPr/>
        </p:nvPicPr>
        <p:blipFill>
          <a:blip r:embed="rId1"/>
          <a:stretch/>
        </p:blipFill>
        <p:spPr>
          <a:xfrm>
            <a:off x="5029200" y="4724280"/>
            <a:ext cx="205740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21:10:44Z</dcterms:created>
  <dc:creator>ladmin</dc:creator>
  <dc:description/>
  <dc:language>en-US</dc:language>
  <cp:lastModifiedBy>Mike</cp:lastModifiedBy>
  <dcterms:modified xsi:type="dcterms:W3CDTF">2012-07-22T12:03:33Z</dcterms:modified>
  <cp:revision>29</cp:revision>
  <dc:subject/>
  <dc:title>Social Studies Unit Plan: What Are Canada’s Regions Like?</dc:title>
</cp:coreProperties>
</file>